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1C6-6516-43C4-8E7E-D9EEFD3A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4CC-EB48-4D23-90C9-D4BE8867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BBA-60B9-4F19-8E77-E9112EAD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70B-A9BA-47D9-B373-0154F40E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75D-2C9C-4D8E-874E-2A571336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A58-28C8-4E83-8AD4-41343C4D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02F-6CF6-402D-89E7-3CF32F96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0C0-454C-411A-9889-E0669C15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92E-549F-4CCA-AD1B-039B5675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FFB-9614-4C54-8941-427CE13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F16-27EE-420C-BDFA-285DFA2B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306-AE8E-4232-A808-DB980E41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14B-29FB-443F-ACD3-C758BCDD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B3A-1503-499E-8AA3-6E1C162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270-57F0-4658-A382-1AC6CD272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arissa Viruet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ar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a military st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static6.depositphotos.com/1000865/581/i/450/dep_5818559-Statue-of-king-Leonidas-in-Sparta-Greece.jpg"/>
          <p:cNvPicPr/>
          <p:nvPr/>
        </p:nvPicPr>
        <p:blipFill>
          <a:blip r:embed="rId1"/>
          <a:stretch/>
        </p:blipFill>
        <p:spPr>
          <a:xfrm>
            <a:off x="2743200" y="2571840"/>
            <a:ext cx="2876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http://greece.mrdonn.org/athens1.gif"/>
          <p:cNvPicPr/>
          <p:nvPr/>
        </p:nvPicPr>
        <p:blipFill>
          <a:blip r:embed="rId1"/>
          <a:stretch/>
        </p:blipFill>
        <p:spPr>
          <a:xfrm>
            <a:off x="1905120" y="3276720"/>
            <a:ext cx="5038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85800" y="9907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 hill which the Greeks built their city-states a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9880" y="3808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destination360.com/europe/greece/images/s/acropolis-museum.jpg"/>
          <p:cNvPicPr/>
          <p:nvPr/>
        </p:nvPicPr>
        <p:blipFill>
          <a:blip r:embed="rId1"/>
          <a:stretch/>
        </p:blipFill>
        <p:spPr>
          <a:xfrm>
            <a:off x="1676520" y="1828800"/>
            <a:ext cx="46386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eek word for city-s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www.realholidayreports.com/hotel_pics/The_Marion_Hotel_Polis.jpg"/>
          <p:cNvPicPr/>
          <p:nvPr/>
        </p:nvPicPr>
        <p:blipFill>
          <a:blip r:embed="rId1"/>
          <a:stretch/>
        </p:blipFill>
        <p:spPr>
          <a:xfrm>
            <a:off x="1523880" y="2057400"/>
            <a:ext cx="51260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was rights &amp; responsibilities in his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1shortstop.files.wordpress.com/2008/12/citizenship1.gif?w=497"/>
          <p:cNvPicPr/>
          <p:nvPr/>
        </p:nvPicPr>
        <p:blipFill>
          <a:blip r:embed="rId1"/>
          <a:stretch/>
        </p:blipFill>
        <p:spPr>
          <a:xfrm>
            <a:off x="2286000" y="2895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 ancient Greece, only_____could be citizen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greece.mrdonn.org/dailyl1.gif"/>
          <p:cNvPicPr/>
          <p:nvPr/>
        </p:nvPicPr>
        <p:blipFill>
          <a:blip r:embed="rId1"/>
          <a:stretch/>
        </p:blipFill>
        <p:spPr>
          <a:xfrm>
            <a:off x="3581280" y="4191120"/>
            <a:ext cx="8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m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and slave’s were not allowed to be citizen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greece.mrdonn.org/women.gif"/>
          <p:cNvPicPr/>
          <p:nvPr/>
        </p:nvPicPr>
        <p:blipFill>
          <a:blip r:embed="rId1"/>
          <a:stretch/>
        </p:blipFill>
        <p:spPr>
          <a:xfrm>
            <a:off x="2895480" y="3124080"/>
            <a:ext cx="25815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://www.richeast.org/htwm/Greeks/Polis/council.gif"/>
          <p:cNvPicPr/>
          <p:nvPr/>
        </p:nvPicPr>
        <p:blipFill>
          <a:blip r:embed="rId1"/>
          <a:stretch/>
        </p:blipFill>
        <p:spPr>
          <a:xfrm>
            <a:off x="2590920" y="3657600"/>
            <a:ext cx="3247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ecx.images-amazon.com/images/I/51nuofUm2wL._SL500_AA300_.jpg"/>
          <p:cNvPicPr/>
          <p:nvPr/>
        </p:nvPicPr>
        <p:blipFill>
          <a:blip r:embed="rId1"/>
          <a:stretch/>
        </p:blipFill>
        <p:spPr>
          <a:xfrm>
            <a:off x="2438280" y="3352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by 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monarchy” comes from to Greek wor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ed101.bu.edu/StudentDoc/current/ED101sp10/ktessman/Images/spartawarrior.jpg"/>
          <p:cNvPicPr/>
          <p:nvPr/>
        </p:nvPicPr>
        <p:blipFill>
          <a:blip r:embed="rId1"/>
          <a:stretch/>
        </p:blipFill>
        <p:spPr>
          <a:xfrm>
            <a:off x="1828800" y="28195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3:30Z</dcterms:modified>
  <cp:revision>99</cp:revision>
  <dc:subject/>
  <dc:title>Ancient Greece</dc:title>
</cp:coreProperties>
</file>